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0DCC-19DF-491D-A750-2ADC5BDC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919C3-D8E3-438B-A012-122DF38A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2ED5-7693-4A29-AE88-6A08218B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DB9F0-6418-4C4B-B11B-527EA80E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71E9-7E02-4F49-BB39-2757AEBE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6400-2B67-4EA6-AE1F-6D1CEC32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B935-7C38-4E46-B6C0-D4A64103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E62E-FBF3-4658-9393-CA4021E3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21EE-F1C8-40CC-8FB7-BC7B6880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9726-2FA2-43D0-9345-391CD884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7D42-DE66-4BEE-AF8D-D74C4F22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4DAA2-4906-4E76-BF4C-0AB6AE8CB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0F87-708E-44FA-8B6D-EEACCAEA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7EAC6-2B53-40F0-948B-F7BB699D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BA41-8EFD-4E1F-A8D1-88821DBE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92EE-8BDE-47F0-91B5-5F6537B9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2948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87520" y="426708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44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92948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887520" y="5023440"/>
            <a:ext cx="1864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EC48-D64F-4AD6-83DD-4C023BEA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8516-BB39-43DD-A945-AA0E98D1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3B736-75F4-4430-A273-6BBCB3E4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8513-3C6B-4E35-83BF-4620C6C4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895120" y="1371600"/>
            <a:ext cx="586764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FC3A-4784-498B-9F2A-0DA809B5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1C1A-AB36-4901-BF8C-1F2E1FE0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502344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AC1C8-1BD7-453B-AA81-F4F99F09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44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39280" y="4267080"/>
            <a:ext cx="28260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440" y="5023440"/>
            <a:ext cx="579132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CCBBE-1F95-4C67-BCD1-DE4ED603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F6D3-47E2-4B5F-944E-F80A2BE3C2C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A12E-0107-40AC-B056-1BEBF436F7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Document and Voice Examination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876560" y="4368600"/>
            <a:ext cx="4259160" cy="7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leasant Valley High Schoo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rensic Scienc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15:17Z</dcterms:created>
  <dc:creator>Adam's Homepage</dc:creator>
  <dc:description/>
  <dc:language>en-US</dc:language>
  <cp:lastModifiedBy>Adam's Homepage</cp:lastModifiedBy>
  <dcterms:modified xsi:type="dcterms:W3CDTF">2008-07-29T05:15:55Z</dcterms:modified>
  <cp:revision>1</cp:revision>
  <dc:subject/>
  <dc:title>Document and Voice Examination</dc:title>
</cp:coreProperties>
</file>